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1B2-18A2-4342-A79D-0D8F34E9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2D1-FA9E-4740-8487-8C48A98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17A-82FB-466D-876F-1FB81CC4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77C-B2B1-4911-9E8E-099F0FF1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88DE-DA01-4F1E-BE2B-BC101F1A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E814-9AA7-420F-82B1-42EFAB8D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7AC6-F206-40F1-B52F-B09704F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A3C0-B90C-48B0-AC2B-E26C76A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196-84F4-43C1-B597-61304F9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CB02-5027-419F-96ED-8313C79D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9BAD-9B11-4A47-99BD-2BEB4DA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30A-3172-4063-B8D9-EDFA93A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F2D-0A97-40E1-94F9-F9DAAF9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8BE5-1068-43E0-8B47-BC816C3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B02-50BA-44BE-A14F-BE74D468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A191-98F3-43E0-B757-DD58A48F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1494-5CCB-4505-8DFF-6235149C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704-6B3E-49FD-84D0-A7473FF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1CD-F334-424B-9069-C68B482D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3E2-0013-4AD0-B799-69BBE24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79F-8DEF-45F7-A3B7-8BE929B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07B-5839-455F-9BA3-F727D5F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674-E84A-432D-80A5-5F2C5A9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3C6-8159-424F-8C4B-A50D681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45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0"/>
                <a:ext cx="9132840" cy="8571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0" y="19080"/>
                <a:ext cx="9105840" cy="6742080"/>
                <a:chOff x="0" y="19080"/>
                <a:chExt cx="9105840" cy="6742080"/>
              </a:xfrm>
            </p:grpSpPr>
            <p:grpSp>
              <p:nvGrpSpPr>
                <p:cNvPr id="5" name=""/>
                <p:cNvGrpSpPr/>
                <p:nvPr/>
              </p:nvGrpSpPr>
              <p:grpSpPr>
                <a:xfrm>
                  <a:off x="8373960" y="19080"/>
                  <a:ext cx="731880" cy="811080"/>
                  <a:chOff x="8373960" y="19080"/>
                  <a:chExt cx="731880" cy="811080"/>
                </a:xfrm>
              </p:grpSpPr>
              <p:sp>
                <p:nvSpPr>
                  <p:cNvPr id="6" name=""/>
                  <p:cNvSpPr/>
                  <p:nvPr/>
                </p:nvSpPr>
                <p:spPr>
                  <a:xfrm>
                    <a:off x="87105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373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901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87105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8291520" y="19080"/>
                  <a:ext cx="50760" cy="811080"/>
                  <a:chOff x="8291520" y="19080"/>
                  <a:chExt cx="50760" cy="8110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2915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915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7535880" y="19080"/>
                  <a:ext cx="733320" cy="811080"/>
                  <a:chOff x="7535880" y="19080"/>
                  <a:chExt cx="733320" cy="8110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7873920" y="1908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75358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79516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873920" y="474840"/>
                    <a:ext cx="4788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453440" y="19080"/>
                  <a:ext cx="48960" cy="811080"/>
                  <a:chOff x="7453440" y="19080"/>
                  <a:chExt cx="48960" cy="81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7453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453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6699240" y="19080"/>
                  <a:ext cx="731880" cy="811080"/>
                  <a:chOff x="6699240" y="19080"/>
                  <a:chExt cx="731880" cy="8110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70358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6992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1150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0358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" name=""/>
                <p:cNvGrpSpPr/>
                <p:nvPr/>
              </p:nvGrpSpPr>
              <p:grpSpPr>
                <a:xfrm>
                  <a:off x="6616800" y="19080"/>
                  <a:ext cx="48960" cy="811080"/>
                  <a:chOff x="6616800" y="19080"/>
                  <a:chExt cx="48960" cy="811080"/>
                </a:xfrm>
              </p:grpSpPr>
              <p:sp>
                <p:nvSpPr>
                  <p:cNvPr id="27" name=""/>
                  <p:cNvSpPr/>
                  <p:nvPr/>
                </p:nvSpPr>
                <p:spPr>
                  <a:xfrm>
                    <a:off x="6616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616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5861160" y="19080"/>
                  <a:ext cx="733320" cy="811080"/>
                  <a:chOff x="5861160" y="19080"/>
                  <a:chExt cx="733320" cy="81108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>
                    <a:off x="61992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58611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6276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61992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5780160" y="19080"/>
                  <a:ext cx="49320" cy="811080"/>
                  <a:chOff x="5780160" y="19080"/>
                  <a:chExt cx="49320" cy="81108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57801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57801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5024520" y="19080"/>
                  <a:ext cx="731880" cy="811080"/>
                  <a:chOff x="5024520" y="19080"/>
                  <a:chExt cx="731880" cy="8110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3611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50245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4403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3611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4943520" y="19080"/>
                  <a:ext cx="49320" cy="811080"/>
                  <a:chOff x="4943520" y="19080"/>
                  <a:chExt cx="49320" cy="8110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>
                    <a:off x="494352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494352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4186080" y="19080"/>
                  <a:ext cx="733680" cy="811080"/>
                  <a:chOff x="4186080" y="19080"/>
                  <a:chExt cx="733680" cy="811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4524480" y="1908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41860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6022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4524480" y="474840"/>
                    <a:ext cx="475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4105440" y="19080"/>
                  <a:ext cx="48960" cy="811080"/>
                  <a:chOff x="4105440" y="19080"/>
                  <a:chExt cx="48960" cy="81108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4105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105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349800" y="19080"/>
                  <a:ext cx="731520" cy="811080"/>
                  <a:chOff x="3349800" y="19080"/>
                  <a:chExt cx="731520" cy="8110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6860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3498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7656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6860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3268800" y="19080"/>
                  <a:ext cx="48960" cy="811080"/>
                  <a:chOff x="3268800" y="19080"/>
                  <a:chExt cx="48960" cy="8110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268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268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2511360" y="19080"/>
                  <a:ext cx="733320" cy="811080"/>
                  <a:chOff x="2511360" y="19080"/>
                  <a:chExt cx="733320" cy="8110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8494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5113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27520" y="396720"/>
                    <a:ext cx="31716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8494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2432160" y="19080"/>
                  <a:ext cx="48960" cy="811080"/>
                  <a:chOff x="2432160" y="19080"/>
                  <a:chExt cx="48960" cy="811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243216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43216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674720" y="19080"/>
                  <a:ext cx="731880" cy="811080"/>
                  <a:chOff x="1674720" y="19080"/>
                  <a:chExt cx="731880" cy="8110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201312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6747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9088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01312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1593720" y="19080"/>
                  <a:ext cx="50760" cy="811080"/>
                  <a:chOff x="1593720" y="19080"/>
                  <a:chExt cx="50760" cy="8110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15937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937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836640" y="19080"/>
                  <a:ext cx="733320" cy="811080"/>
                  <a:chOff x="836640" y="19080"/>
                  <a:chExt cx="733320" cy="8110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117468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366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2524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17468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755640" y="19080"/>
                  <a:ext cx="49320" cy="811080"/>
                  <a:chOff x="755640" y="19080"/>
                  <a:chExt cx="49320" cy="81108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7556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6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0" y="19080"/>
                  <a:ext cx="731880" cy="6742080"/>
                  <a:chOff x="0" y="19080"/>
                  <a:chExt cx="731880" cy="674208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19080"/>
                    <a:ext cx="731880" cy="811080"/>
                    <a:chOff x="0" y="19080"/>
                    <a:chExt cx="731880" cy="81108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336600" y="47484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336600" y="190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0" y="39672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14360" y="39672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0" y="853920"/>
                    <a:ext cx="731880" cy="54000"/>
                    <a:chOff x="0" y="853920"/>
                    <a:chExt cx="731880" cy="5400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0" y="853920"/>
                      <a:ext cx="31608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14360" y="853920"/>
                      <a:ext cx="3175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0" y="930240"/>
                    <a:ext cx="731880" cy="812880"/>
                    <a:chOff x="0" y="930240"/>
                    <a:chExt cx="731880" cy="812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36600" y="93024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0" y="130968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14360" y="130968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336600" y="13892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0" y="1765440"/>
                    <a:ext cx="731880" cy="55440"/>
                    <a:chOff x="0" y="1765440"/>
                    <a:chExt cx="731880" cy="5544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0" y="176544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14360" y="176544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0" y="1844640"/>
                    <a:ext cx="731880" cy="809640"/>
                    <a:chOff x="0" y="1844640"/>
                    <a:chExt cx="731880" cy="80964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336600" y="18446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0" y="222084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4360" y="222084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6600" y="230040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0" y="2678040"/>
                    <a:ext cx="731880" cy="55800"/>
                    <a:chOff x="0" y="2678040"/>
                    <a:chExt cx="731880" cy="5580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0" y="267804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14360" y="267804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0" y="2755800"/>
                    <a:ext cx="731880" cy="812880"/>
                    <a:chOff x="0" y="2755800"/>
                    <a:chExt cx="731880" cy="81288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6600" y="27558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0" y="31338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14360" y="31338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336600" y="321156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0" y="3591000"/>
                    <a:ext cx="731880" cy="55440"/>
                    <a:chOff x="0" y="3591000"/>
                    <a:chExt cx="731880" cy="554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0" y="35910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414360" y="35910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0" y="3670200"/>
                    <a:ext cx="731880" cy="809640"/>
                    <a:chOff x="0" y="3670200"/>
                    <a:chExt cx="731880" cy="80964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36600" y="36702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0" y="404640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14360" y="404640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36600" y="412596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0" y="4502160"/>
                    <a:ext cx="731880" cy="57240"/>
                    <a:chOff x="0" y="4502160"/>
                    <a:chExt cx="731880" cy="5724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0" y="450216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4360" y="450216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0" y="4581360"/>
                    <a:ext cx="731880" cy="809640"/>
                    <a:chOff x="0" y="4581360"/>
                    <a:chExt cx="731880" cy="80964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36600" y="458136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0" y="495936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4360" y="495936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36600" y="503712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0" y="5415120"/>
                    <a:ext cx="731880" cy="55440"/>
                    <a:chOff x="0" y="5415120"/>
                    <a:chExt cx="731880" cy="554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0" y="54151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14360" y="54151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0" y="5492880"/>
                    <a:ext cx="731880" cy="812520"/>
                    <a:chOff x="0" y="5492880"/>
                    <a:chExt cx="731880" cy="8125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36600" y="549288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0" y="5872320"/>
                      <a:ext cx="31608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14360" y="5872320"/>
                      <a:ext cx="31752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36600" y="595008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0" y="6327720"/>
                    <a:ext cx="731880" cy="433440"/>
                    <a:chOff x="0" y="6327720"/>
                    <a:chExt cx="731880" cy="433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36600" y="64072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0" y="63277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4360" y="63277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765000" y="857160"/>
                <a:ext cx="8367840" cy="5988240"/>
                <a:chOff x="765000" y="857160"/>
                <a:chExt cx="8367840" cy="5988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68240" y="85716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65000" y="857160"/>
                  <a:ext cx="0" cy="598824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900C-1B42-4379-8B24-0FD378EA3C8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080-82B5-471C-B100-10E7962ADF4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-1440"/>
            <a:ext cx="9144000" cy="6846840"/>
            <a:chOff x="-1440" y="-1440"/>
            <a:chExt cx="9144000" cy="6846840"/>
          </a:xfrm>
        </p:grpSpPr>
        <p:grpSp>
          <p:nvGrpSpPr>
            <p:cNvPr id="192" name=""/>
            <p:cNvGrpSpPr/>
            <p:nvPr/>
          </p:nvGrpSpPr>
          <p:grpSpPr>
            <a:xfrm>
              <a:off x="754200" y="932040"/>
              <a:ext cx="48960" cy="811080"/>
              <a:chOff x="754200" y="932040"/>
              <a:chExt cx="48960" cy="811080"/>
            </a:xfrm>
          </p:grpSpPr>
          <p:sp>
            <p:nvSpPr>
              <p:cNvPr id="193" name=""/>
              <p:cNvSpPr/>
              <p:nvPr/>
            </p:nvSpPr>
            <p:spPr>
              <a:xfrm>
                <a:off x="754200" y="1387440"/>
                <a:ext cx="48960" cy="3556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200" y="932040"/>
                <a:ext cx="48960" cy="3538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-1440" y="-1440"/>
              <a:ext cx="9144000" cy="6846840"/>
              <a:chOff x="-1440" y="-1440"/>
              <a:chExt cx="9144000" cy="68468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54200" y="17640"/>
                <a:ext cx="48960" cy="811080"/>
                <a:chOff x="754200" y="17640"/>
                <a:chExt cx="48960" cy="811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5420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20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-1440" y="-1440"/>
                <a:ext cx="9144000" cy="6846840"/>
                <a:chOff x="-1440" y="-1440"/>
                <a:chExt cx="9144000" cy="68468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0"/>
                  <a:ext cx="762120" cy="6845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-1440" y="-1440"/>
                  <a:ext cx="9144000" cy="19065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8372520" y="17640"/>
                  <a:ext cx="731880" cy="811080"/>
                  <a:chOff x="8372520" y="17640"/>
                  <a:chExt cx="731880" cy="8110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870912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372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7883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70912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8290080" y="17640"/>
                  <a:ext cx="50760" cy="811080"/>
                  <a:chOff x="8290080" y="17640"/>
                  <a:chExt cx="50760" cy="811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2900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900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534440" y="17640"/>
                  <a:ext cx="733320" cy="811080"/>
                  <a:chOff x="7534440" y="17640"/>
                  <a:chExt cx="733320" cy="811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7872480" y="176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534440" y="3952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502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872480" y="4730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451640" y="17640"/>
                  <a:ext cx="49320" cy="811080"/>
                  <a:chOff x="7451640" y="17640"/>
                  <a:chExt cx="49320" cy="811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7451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451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697800" y="17640"/>
                  <a:ext cx="731880" cy="811080"/>
                  <a:chOff x="6697800" y="17640"/>
                  <a:chExt cx="731880" cy="811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340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9780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1136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40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15000" y="17640"/>
                  <a:ext cx="49320" cy="811080"/>
                  <a:chOff x="6615000" y="17640"/>
                  <a:chExt cx="49320" cy="8110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615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615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5859360" y="17640"/>
                  <a:ext cx="733680" cy="811080"/>
                  <a:chOff x="5859360" y="17640"/>
                  <a:chExt cx="733680" cy="811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19776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5936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75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19776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778360" y="17640"/>
                  <a:ext cx="49320" cy="811080"/>
                  <a:chOff x="5778360" y="17640"/>
                  <a:chExt cx="49320" cy="811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778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778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022720" y="17640"/>
                  <a:ext cx="731880" cy="811080"/>
                  <a:chOff x="5022720" y="17640"/>
                  <a:chExt cx="731880" cy="8110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35932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227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4388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35932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4941720" y="17640"/>
                  <a:ext cx="49320" cy="811080"/>
                  <a:chOff x="4941720" y="17640"/>
                  <a:chExt cx="49320" cy="8110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9417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9417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4184640" y="17640"/>
                  <a:ext cx="733320" cy="811080"/>
                  <a:chOff x="4184640" y="17640"/>
                  <a:chExt cx="733320" cy="8110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522680" y="176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1846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6004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522680" y="4730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103640" y="17640"/>
                  <a:ext cx="49320" cy="811080"/>
                  <a:chOff x="4103640" y="17640"/>
                  <a:chExt cx="49320" cy="811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103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103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348000" y="17640"/>
                  <a:ext cx="731880" cy="811080"/>
                  <a:chOff x="3348000" y="17640"/>
                  <a:chExt cx="731880" cy="8110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846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3480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7638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6846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267000" y="17640"/>
                  <a:ext cx="49320" cy="811080"/>
                  <a:chOff x="3267000" y="17640"/>
                  <a:chExt cx="49320" cy="8110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67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267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509920" y="17640"/>
                  <a:ext cx="733320" cy="811080"/>
                  <a:chOff x="2509920" y="17640"/>
                  <a:chExt cx="733320" cy="811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8479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5099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9257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8479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430360" y="17640"/>
                  <a:ext cx="49320" cy="811080"/>
                  <a:chOff x="2430360" y="17640"/>
                  <a:chExt cx="49320" cy="8110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430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430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1673280" y="17640"/>
                  <a:ext cx="731880" cy="811080"/>
                  <a:chOff x="1673280" y="17640"/>
                  <a:chExt cx="731880" cy="8110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20113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6732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8908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113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1592280" y="17640"/>
                  <a:ext cx="50760" cy="811080"/>
                  <a:chOff x="1592280" y="17640"/>
                  <a:chExt cx="50760" cy="8110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5922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922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117324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5200" y="3952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51000" y="3952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7324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-1440" y="17640"/>
                  <a:ext cx="731520" cy="6742080"/>
                  <a:chOff x="-1440" y="17640"/>
                  <a:chExt cx="731520" cy="674208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-1440" y="17640"/>
                    <a:ext cx="731520" cy="811080"/>
                    <a:chOff x="-1440" y="17640"/>
                    <a:chExt cx="731520" cy="8110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34800" y="47304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334800" y="176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-1440" y="395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12920" y="395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-1440" y="852480"/>
                    <a:ext cx="731520" cy="54000"/>
                    <a:chOff x="-1440" y="852480"/>
                    <a:chExt cx="731520" cy="5400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-1440" y="85248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12920" y="85248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-1440" y="928800"/>
                    <a:ext cx="731520" cy="812520"/>
                    <a:chOff x="-1440" y="928800"/>
                    <a:chExt cx="731520" cy="8125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34800" y="92880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-1440" y="130824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12920" y="130824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4800" y="13874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-1440" y="1763640"/>
                    <a:ext cx="731520" cy="55800"/>
                    <a:chOff x="-1440" y="1763640"/>
                    <a:chExt cx="731520" cy="558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-1440" y="176364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12920" y="176364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-1440" y="1843200"/>
                    <a:ext cx="731520" cy="809640"/>
                    <a:chOff x="-1440" y="1843200"/>
                    <a:chExt cx="731520" cy="8096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34800" y="184320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-1440" y="2219400"/>
                      <a:ext cx="3157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12920" y="2219400"/>
                      <a:ext cx="31716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34800" y="229860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-1440" y="2676600"/>
                    <a:ext cx="731520" cy="55440"/>
                    <a:chOff x="-1440" y="2676600"/>
                    <a:chExt cx="731520" cy="554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-1440" y="267660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12920" y="267660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-1440" y="2754360"/>
                    <a:ext cx="731520" cy="812880"/>
                    <a:chOff x="-1440" y="2754360"/>
                    <a:chExt cx="731520" cy="812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34800" y="27543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-1440" y="31320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412920" y="31320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34800" y="3209760"/>
                      <a:ext cx="51120" cy="3574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-1440" y="3589200"/>
                    <a:ext cx="731520" cy="55800"/>
                    <a:chOff x="-1440" y="3589200"/>
                    <a:chExt cx="731520" cy="558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-1440" y="35892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2920" y="35892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-1440" y="3668760"/>
                    <a:ext cx="731520" cy="809640"/>
                    <a:chOff x="-1440" y="3668760"/>
                    <a:chExt cx="731520" cy="8096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334800" y="36687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-1440" y="404496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12920" y="404496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34800" y="412416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-1440" y="4500720"/>
                    <a:ext cx="731520" cy="56880"/>
                    <a:chOff x="-1440" y="4500720"/>
                    <a:chExt cx="731520" cy="568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-1440" y="4500720"/>
                      <a:ext cx="31572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2920" y="4500720"/>
                      <a:ext cx="31716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-1440" y="4579920"/>
                    <a:ext cx="731520" cy="809640"/>
                    <a:chOff x="-1440" y="4579920"/>
                    <a:chExt cx="731520" cy="8096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4800" y="457992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-1440" y="49579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12920" y="49579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34800" y="503568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-1440" y="5413320"/>
                    <a:ext cx="731520" cy="55440"/>
                    <a:chOff x="-1440" y="5413320"/>
                    <a:chExt cx="731520" cy="554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-1440" y="54133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12920" y="54133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-1440" y="5491080"/>
                    <a:ext cx="731520" cy="812880"/>
                    <a:chOff x="-1440" y="5491080"/>
                    <a:chExt cx="731520" cy="8128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4800" y="549108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-1440" y="587052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12920" y="587052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334800" y="594828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-1440" y="6326280"/>
                    <a:ext cx="731520" cy="433440"/>
                    <a:chOff x="-1440" y="6326280"/>
                    <a:chExt cx="731520" cy="433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34800" y="640548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-1440" y="6326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12920" y="6326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8372520" y="932040"/>
                  <a:ext cx="731880" cy="811080"/>
                  <a:chOff x="8372520" y="932040"/>
                  <a:chExt cx="731880" cy="811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870912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372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7883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70912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290080" y="932040"/>
                  <a:ext cx="50760" cy="811080"/>
                  <a:chOff x="8290080" y="932040"/>
                  <a:chExt cx="50760" cy="8110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82900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2900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534440" y="932040"/>
                  <a:ext cx="733320" cy="811080"/>
                  <a:chOff x="7534440" y="932040"/>
                  <a:chExt cx="733320" cy="8110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7872480" y="9320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53444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9502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872480" y="13874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451640" y="932040"/>
                  <a:ext cx="49320" cy="811080"/>
                  <a:chOff x="7451640" y="932040"/>
                  <a:chExt cx="49320" cy="8110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7451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451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697800" y="932040"/>
                  <a:ext cx="731880" cy="811080"/>
                  <a:chOff x="6697800" y="932040"/>
                  <a:chExt cx="731880" cy="81108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70340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9780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1136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0340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615000" y="932040"/>
                  <a:ext cx="49320" cy="811080"/>
                  <a:chOff x="6615000" y="932040"/>
                  <a:chExt cx="49320" cy="8110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615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615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859360" y="932040"/>
                  <a:ext cx="733680" cy="811080"/>
                  <a:chOff x="5859360" y="932040"/>
                  <a:chExt cx="733680" cy="81108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19776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85936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275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19776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778360" y="932040"/>
                  <a:ext cx="49320" cy="811080"/>
                  <a:chOff x="5778360" y="932040"/>
                  <a:chExt cx="49320" cy="8110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778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778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5022720" y="932040"/>
                  <a:ext cx="731880" cy="811080"/>
                  <a:chOff x="5022720" y="932040"/>
                  <a:chExt cx="731880" cy="8110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35932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0227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4388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35932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4941720" y="932040"/>
                  <a:ext cx="49320" cy="811080"/>
                  <a:chOff x="4941720" y="932040"/>
                  <a:chExt cx="49320" cy="8110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49417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9417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184640" y="932040"/>
                  <a:ext cx="733320" cy="811080"/>
                  <a:chOff x="4184640" y="932040"/>
                  <a:chExt cx="733320" cy="8110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522680" y="9320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1846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6004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522680" y="13874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4103640" y="932040"/>
                  <a:ext cx="49320" cy="811080"/>
                  <a:chOff x="4103640" y="932040"/>
                  <a:chExt cx="49320" cy="8110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4103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03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3348000" y="932040"/>
                  <a:ext cx="731880" cy="811080"/>
                  <a:chOff x="3348000" y="932040"/>
                  <a:chExt cx="731880" cy="8110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6846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3480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7638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6846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3267000" y="932040"/>
                  <a:ext cx="49320" cy="811080"/>
                  <a:chOff x="3267000" y="932040"/>
                  <a:chExt cx="49320" cy="8110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3267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67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509920" y="932040"/>
                  <a:ext cx="733320" cy="811080"/>
                  <a:chOff x="2509920" y="932040"/>
                  <a:chExt cx="733320" cy="8110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28479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5099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9257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8479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2430360" y="932040"/>
                  <a:ext cx="49320" cy="811080"/>
                  <a:chOff x="2430360" y="932040"/>
                  <a:chExt cx="49320" cy="8110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430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430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673280" y="932040"/>
                  <a:ext cx="731880" cy="811080"/>
                  <a:chOff x="1673280" y="932040"/>
                  <a:chExt cx="731880" cy="8110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0113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6732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8908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13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1592280" y="932040"/>
                  <a:ext cx="50760" cy="811080"/>
                  <a:chOff x="1592280" y="932040"/>
                  <a:chExt cx="50760" cy="811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5922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5922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835200" y="932040"/>
                  <a:ext cx="733320" cy="811080"/>
                  <a:chOff x="835200" y="932040"/>
                  <a:chExt cx="733320" cy="8110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17324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520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25100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17324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>
                  <a:off x="835200" y="8524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51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79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0988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178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368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559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7749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194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13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324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4514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8705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895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086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28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5470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660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851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8041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5200" y="1771560"/>
                  <a:ext cx="31716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51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79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0988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178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368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559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749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194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13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324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4514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705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895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7086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128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470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660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3851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8041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63560" y="1905120"/>
                <a:ext cx="8367840" cy="4938480"/>
                <a:chOff x="763560" y="1905120"/>
                <a:chExt cx="8367840" cy="4938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66800" y="190512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3560" y="1905120"/>
                  <a:ext cx="0" cy="493848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 Tell The Good Ne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Quarter 11, Lesson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cts 1:1 – 2: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ges 11-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2081160" cy="31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97CB-7B8C-4E6E-8895-F069B8545EC4}" type="slidenum">
              <a:t>1</a:t>
            </a:fld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ostleship Not Handed Dow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postles were Witnesses of Jesus and filled a limited, but foundational ne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re were no “successors” appointed by the chur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re are no living apostles toda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re was no “pope” then, nor was such an office handed down by divine authorit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CE3-4FA5-4654-85BF-0239C18D9B55}" type="slidenum">
              <a:t>10</a:t>
            </a:fld>
          </a:p>
        </p:txBody>
      </p:sp>
    </p:spTree>
  </p:cSld>
  <p:transition>
    <p:cut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ay of Pentec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0 days after Passover – Lev. 23: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east of Weeks followed Passove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Num. 28:26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unted Seven Sabbaths (49 days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Day after of the Seventh Sabbath was the 5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day  (falling on the first day of the wee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is feast typified the Harvest of souls that would take pla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F60-6323-4C37-9630-78775873D2F6}" type="slidenum">
              <a:t>11</a:t>
            </a:fld>
          </a:p>
        </p:txBody>
      </p:sp>
    </p:spTree>
  </p:cSld>
  <p:transition>
    <p:cut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postles Are Filled With The Holy Spirit (Acts 2:1-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41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Holy Spirit did not fall on the 1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mised only to the 12 – Acts 1:2-5,8; John 14-1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pronoun “they” refers back to the apostles, including Matthias (1:26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nly apostles worked miracles until Acts 6:8  - See 2:14,43; 3:1-10; 4:33; 5:1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9D9-3D8E-4CF2-B6E0-002614F0335A}" type="slidenum">
              <a:t>12</a:t>
            </a:fld>
          </a:p>
        </p:txBody>
      </p:sp>
    </p:spTree>
  </p:cSld>
  <p:transition>
    <p:cut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postles Are Filled With The Holy Spirit (Acts 2:1-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41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ose speaking in miraculous tongues were “Galileans” (2:7) – The whole group of 120 were not all Galilea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eter stood up with the eleven (2:14), not with the 11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us, the miraculous outpouring was upon the 12 apostl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AEE-7E28-486F-9D50-4D1F4593CD6C}" type="slidenum">
              <a:t>13</a:t>
            </a:fld>
          </a:p>
        </p:txBody>
      </p:sp>
    </p:spTree>
  </p:cSld>
  <p:transition>
    <p:cut thruBlk="true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Work Begi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ummary of Acts 1-1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gospel spread from the city of Jerusal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o the whole eastern shore of the Mediterranea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403-CF35-41F1-973A-C192E1091C9B}" type="slidenum">
              <a:t>2</a:t>
            </a:fld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Gospel in Jerusa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3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cts 1:1 – 8: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Prologue - 1:1-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Luke describes his work as the second volume of a two-volume work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Which he has dedicated to Theophilus – A Gentile ruler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ny infallible proofs” had been offered for the case for Jesus Christ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The case had been more than sufficiently strong in evidence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C06-F7E1-4549-A08F-EB9B7C43922C}" type="slidenum">
              <a:t>3</a:t>
            </a:fld>
          </a:p>
        </p:txBody>
      </p:sp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minders of the Coming Work of the Holy Spiri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Holy Spirit woul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bide with the apostl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each them all things they did not yet know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ring to their remembrance the things Jesus had taugh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estify of Jesu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uide them into all truth (John 14:16-17,26; 15:26; 16:7-15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A41-4236-4EF9-8EA7-795891A050CB}" type="slidenum">
              <a:t>4</a:t>
            </a:fld>
          </a:p>
        </p:txBody>
      </p:sp>
    </p:spTree>
  </p:cSld>
  <p:transition>
    <p:cut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Question about the Kingd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apostles asked about a restoring of the kingdom to Isra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y would learn that it was a spiritual kingdo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Holy Spirit would help them piece together the meanings of Jesus’ parables of the kingdom and understand that the church is the true Israel of Go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192-835A-46B2-A6B5-8A69770D6FD2}" type="slidenum">
              <a:t>5</a:t>
            </a:fld>
          </a:p>
        </p:txBody>
      </p:sp>
    </p:spTree>
  </p:cSld>
  <p:transition>
    <p:cut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postles Would Be Adequate Witness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2295360"/>
            <a:ext cx="358164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 Jerusal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 Jude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 Samari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 the uttermost part of the ear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3733920" y="2666880"/>
            <a:ext cx="2590560" cy="2438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8120" y="3200400"/>
            <a:ext cx="2666880" cy="167652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3809880"/>
            <a:ext cx="2743200" cy="45720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614-1198-4C4D-8858-23C1859F3D02}" type="slidenum">
              <a:t>6</a:t>
            </a:fld>
          </a:p>
        </p:txBody>
      </p:sp>
    </p:spTree>
  </p:cSld>
  <p:transition>
    <p:cut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Ascension (Acts 1:6-1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sus ascended to heaven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angels said He would return some day in like manner as He lef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disciples remained in Jerusalem waiting the fulfillment of the giving of the Holy Spir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659-76DB-4A54-B1C2-20C1D6EDF604}" type="slidenum">
              <a:t>7</a:t>
            </a:fld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Disciples Tarry in Jerusalem (Acts 1:12-1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81024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Eleven Apostle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eter, Andrew, James, John, Philip, Bartholomew, Thomas, Matthew, James, Thaddeus, Sim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28840" y="2295360"/>
            <a:ext cx="380988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120 consisted of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apost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ry, Jesus’ moth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is brothe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aithful wom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timate discip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(Among these a replacement for Judas would be chosen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BFB-CC11-41D4-B08A-7E9702F9AA8C}" type="slidenum">
              <a:t>8</a:t>
            </a:fld>
          </a:p>
        </p:txBody>
      </p:sp>
    </p:spTree>
  </p:cSld>
  <p:transition>
    <p:cut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hoosing of Matthias (Acts 1:15-26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quirements for the new apostl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een with us since John’s baptis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witness of the resurrected Jesu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wo Qualified Men Set Fort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oseph Barsaba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tthias – who became divinely chos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447-031E-43E2-8E78-151DC6DB4ABA}" type="slidenum">
              <a:t>9</a:t>
            </a:fld>
          </a:p>
        </p:txBody>
      </p:sp>
    </p:spTree>
  </p:cSld>
  <p:transition>
    <p:cut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5:12:27Z</dcterms:created>
  <dc:creator> Tab Vines</dc:creator>
  <dc:description/>
  <dc:language>en-US</dc:language>
  <cp:lastModifiedBy>Frank D Vines</cp:lastModifiedBy>
  <dcterms:modified xsi:type="dcterms:W3CDTF">2007-01-07T14:51:42Z</dcterms:modified>
  <cp:revision>7</cp:revision>
  <dc:subject/>
  <dc:title>Go Tell The Good News</dc:title>
</cp:coreProperties>
</file>